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629-2DA4-4171-84D1-AA82319F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563-4463-48D3-B170-7AA3DA3F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5FC-2B4D-4CDF-A72C-41022503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D93-776D-4897-8D93-AE88C8D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599-B7B2-4D7C-8886-1C8A2F2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720-00C2-4C55-BEE0-C5E7DDA5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61-DEFC-45EB-BCE7-408DCCB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ADD-3DF9-43E0-BC56-B0B2E269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664-7BDE-471F-AC1B-BF4299E8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28C-1D26-427A-9FB3-9EA06772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FD0-1608-4AC8-A71A-5C8B0EE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981-787A-477F-9626-61B4C503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B13C3B-AA0A-4F85-8513-A525405321A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Animações – Parte 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erir keyframes para manter posição até certo p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43280" y="1989000"/>
            <a:ext cx="5532480" cy="42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4752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ificar Cur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 trans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chegam ao key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avidade =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ificação li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urvas pré-prontas e edi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roken: lados da curva indepen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63204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letar a animação pro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ligar a gravação (Play = tes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gar o game = animação roda uma vez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ção pode ser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igidBody = Checando col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4221000"/>
            <a:ext cx="349236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rap mode: como animações são cortadas (continu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or (abaix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nce (roda única ve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op (volta ao começ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ing Pong (vai e vol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mp for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ica no último qu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65760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nova animação para o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or : Create Clip : anima-cubo2.an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r gir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’00 = rotação X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’00 = rotação X 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03280" y="4005360"/>
            <a:ext cx="648036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dando animações por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sse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1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Play ("anima-cubo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2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Play ("anima-cubo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t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(Input.GetKeyDown("0")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ion.Stop();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sPlay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 OnMouseEnter(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(!animation.IsPlaying(“anima-cubo2“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tion.Play("anima-cubo2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ionState :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es sobre a ani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es de Blend (mistura) animações (p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: animation[“nomedaanima”].proprie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4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["anima-cubo2"].speed = 0.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.Play ("anima-cubo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5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["anima-cubo2"].time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tionState : Clas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udando o wrap mode da anima por códi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imation["Walk"].wrapMode = WrapMode.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740412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indo eventos n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Keyframe = roda função pré-progr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a função desejada, 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velo_anima = 0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tion aumenta_velo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_anima += 0.2;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imation["anima-cubo2"].speed = velo_an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umenta velocidade da a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ribuir essa função a keyframe (anim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imações (modelo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duzidas em softwares de criação 3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tion Capture (Mo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tras técnicas de animação (ví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portadas junto a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imações via Unity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ificar / criar animações ge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animar componentes /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135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indo eventos n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2723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imações Un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indow-&gt; Animation (Ctrl+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tor de anim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ha do tempo + Key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Key Frame = posição chave (quadro ch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dros intermediários = criados (au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0899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Objeto Cubo para an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-nomear objeto = Ani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iciar Animator (Window-&gt;Anim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otão Gravar (Rec) = nova ani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rquivo externo: anima-cubo.AN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 Click sobre o nome anima (Create Cl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4941720"/>
            <a:ext cx="3403440" cy="12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-se Key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ões desejadas (chaves) em relação a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forma-se posições e/ou rotações do(s) objet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dição pelo animator e Inspector (entrada direta de parâme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r animação -&gt; o que mud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lanejamento prévio d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ick sobre a propriedade e Add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540072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Keyframes = planejar a animação antes de desenvolvê-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dentificar partes da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lacionar Keys com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keys (modificações) = 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338472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nimar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0’30 = rotar 180o em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’00 = rotar 90o e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’30 = rotar 180o em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A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ick n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d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m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ovo parâ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4781520" cy="281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24T21:45:40Z</dcterms:modified>
  <cp:revision>85</cp:revision>
  <dc:subject/>
  <dc:title>Projeto de jogos: Ferramentas de desenvolvimento rápido </dc:title>
</cp:coreProperties>
</file>