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10C-A365-4A46-AEE6-A29B7BAD4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F7A-915D-418C-B104-5D566F326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24F28-AD1F-4828-B545-C77A28002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FB15-2E28-40FD-8E7E-B02510A6E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3BB98-4EEF-4164-AF36-4EF404628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CB51-9D65-4AFE-A01B-88AF2C3F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707-0D1B-4189-82E0-2C6D8F8DF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50B0-DABA-400D-902E-473BA788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4DF5-D206-407A-B3B4-339914AA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C5D5F-5C62-4FB2-AD4A-1C823FEB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B21D-B244-4B00-8056-E772237FA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91749-2EED-4F9B-A189-0CA2B41C1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CF632-03FC-4D9C-951E-F06B1869B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Modelos 3D – Parte 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rimitivas básicas (box, sphere, etc) construídas direto pelo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odelos complexos = construídos com programas auxiliares (3D Max, Maya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Tipos de Modelos aceitos no DBPr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X, .3DS, .MD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O arquivo de um modelo inclui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a malha (mesh) = forma do obje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textu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Definição de animações própr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Para arquivos .X e .3DS, copiar o arquivo do modelo e o(s) bitmap(s) de textur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 texturização é automática, definida já na construção do model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Arquivos .MDL = já incluem a textura ju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rregando modelos 3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OAD OBJECT “arquivo.X”, n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ilização dos modelos é normal, como as primitivas básic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uma posição X,Y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 uma rotação X,Y,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: Podemos substituir nossa esfera dos exercícios diretamente por um modelo mais complexo, e manter o resto dos códig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 tamanho dos modelos (dimensões) é definido em sua criação (normalmente em outros program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dimensionar um model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CALE OBJECT num, X, Y, 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para escala: 100 = tamanho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demos variar a escala de um modelo com valores diferentes em X, Y e 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Exemplo de modelo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trod1.x” (model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Hotrod1.BMP” (textur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95280" y="3068640"/>
            <a:ext cx="4321080" cy="31370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5003640" y="3716280"/>
            <a:ext cx="3313440" cy="2362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5867280" y="119700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ubstituição simples em nossos exemplos, usar modelo ao invés de esfe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Remover linha de criação de esfera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MAKE OBJECT SPHERE 1,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Inserir um modelo como play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AD OBJECT “hotrod1.x”,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odelos 3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68000" y="12682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odos os comandos anteriores, de movimento, colisão e rotação se mantém funcionais (iguais), e agora temos um modelo melhor para o jog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195640" y="1989000"/>
            <a:ext cx="5761080" cy="43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7:54:36Z</dcterms:created>
  <dc:creator>A.B.</dc:creator>
  <dc:description/>
  <dc:language>en-US</dc:language>
  <cp:lastModifiedBy>A.B.</cp:lastModifiedBy>
  <dcterms:modified xsi:type="dcterms:W3CDTF">2008-09-03T20:16:48Z</dcterms:modified>
  <cp:revision>2</cp:revision>
  <dc:subject/>
  <dc:title>Dark Basic Pro: Modelos 3D</dc:title>
</cp:coreProperties>
</file>