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9838-E687-4952-AAFB-7312600F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243C-C9A5-451D-920A-0E67605E0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F59B-792A-42BF-AB35-1B6058C6C7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F743-4189-43FF-9C29-29F710AD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BCB0-D1B8-4EFA-8525-541A3F748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F6BE-0471-4348-B8DA-1C2C07723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6F4A9-5050-4A47-A4EB-903625EF1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F839-0996-4638-8A49-AA8C8469C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E24E-FA2E-46E5-8E66-361341A4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FDD1C-33CC-4714-A682-3A2880E47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D997-594A-4C75-8428-B082A9475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5026-722E-41AA-B65A-82C6D886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EACF5-BF43-43DC-95F6-A2E8882C05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usic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 3D: calcula automaticamente lado do som (caixa), e distancia (volum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ula som 3D, espa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rquivo WAV, Mo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OAD 3DSOUND “arquivo.WAV”, n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ara som 3D necessitamos duas posi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ção X,Y,Z da fonte do som (onde o som ocor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Posição X,Y,Z do listener (de onde estamos escuta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ição do som (posição do objeto que emite o som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ITION SOUND num, X, Y,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osição e ângulo do Listener ( de onde estamos escutan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ISTENER =  normal é a posição da câmera, que é nossa visão dentro do jo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OSITION LISTENER X,Y,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ROTATE LISTENER angx, angy, ang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xemplo básico: toca som único em uma colisão (previne – som não tocando ain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F colisao &lt;&gt; 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F SOUND PLAYING(1) = 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LAY SOUND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úsica: CD, arquivos MP3 ou MID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IDI = super leves, baseados apenas em instrumentos e notas (baixo processam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P3 = alta qualidade, músicas completas, compactadas (requer processamen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CD = música em CD pouco utilizada em dias atuais com jog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antagem CD: rodar música em CD não onera o processamento da máqui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serir música nos jog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OAD MUSIC “arquivo.MP3”, nú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LAY MUSIC nú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OOP MUSIC nú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TOP MUSIC nú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USE MUSIC nú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SUME MUSIC núm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MUSIC VOLUME num, volu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Volume 0..1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permite extrapolar volu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T MUSIC SPEED num, veloc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Velocidade 100 = velocidade norm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 PLAYING(numer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- Retorna 1 se musica tocando, 0 = n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emplo básico de fade na música (baixar volume e desligar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USIC PLAYING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MUSIC VOLUME(1) &gt;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= MUSIC VOLUME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olume = volume –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T MUSIC VOLUME 1, volum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volume &lt;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OP MUSIC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ocar música em CD (pouco usu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LOAD CDMUSIC faixa, numero (para o program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aixas totais no 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usicas = GET NUMBER OF CD TRACKS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ação de Sons nos jogos (arquivos WAV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AD SOUND “arquivo.WAV”, nu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LAY SOUND nu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OOP SOUND nu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OP SOUND nu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USE SOUND nu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ME SOUND num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SOUND SPEED num, velocid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elocidade 100 =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T SOUND VOLUME num, volu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olume 100 =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ocando = SOUND PLAYING(nu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torna 1 = tocando s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úsica e S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terminando o lado do som (caixa esquerda ou direita) = 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ET SOUND PAN num, p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PAN: valores de -10.000 até 10.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PAN -10.000 = som na caixa esquer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- Default: 0 = som ambas caix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7:23:03Z</dcterms:created>
  <dc:creator>A.B.</dc:creator>
  <dc:description/>
  <dc:language>en-US</dc:language>
  <cp:lastModifiedBy>A.B.</cp:lastModifiedBy>
  <dcterms:modified xsi:type="dcterms:W3CDTF">2008-09-03T20:14:49Z</dcterms:modified>
  <cp:revision>3</cp:revision>
  <dc:subject/>
  <dc:title>Dark Basic Pro: Music e Som</dc:title>
</cp:coreProperties>
</file>