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CDE78-F199-46A8-87CC-A59EBA24F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A396-44A4-4753-96F3-B14F429B9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7C24-47CD-4FE5-8D0D-4AF102D4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54EC-A4D2-460D-86C8-7D11AA13D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D17-4A78-493C-9C07-3657D417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8B94-C146-4259-871D-A78289A6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5945B-C79B-4697-A540-1C346091D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DCF-76EB-405A-95A9-63381BE2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6597-571E-46C8-84AA-DBA53C88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50DF-3055-4141-9357-7371D33B4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C3F2-DCB9-4D61-B425-33131725B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F3B6-078C-49C5-A945-34C21460D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B60F1-0643-42E3-A05D-429D61AC4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Dark Basic Pro:</a:t>
            </a:r>
            <a:br>
              <a:rPr sz="4400"/>
            </a:b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gusto Bü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BPro – por padrão, renderiza o número máximo de telas por segun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FPS Livre - Aspectos negativ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Muita diferença entre compu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Problemas matemátic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EX: Comando para adicionar 1 ao ângulo de direção, em 30FPS, adiciona 30 graus ao ângulo em 1 segundo, em 200 FPS, adiciona 200 graus ao ângulo por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Utilizar FPS máximo (default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YNC OFF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eterminar FPS para o jogo (melhor maneira de manter padrão em diferentes máquinas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YNC 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YNC RATE FPS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Com SYNC ON, forçar a sincronização no final do loop do jogo (renderizar tela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SYN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LO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Arial"/>
              </a:rPr>
              <a:t>SYNC ao final do loop, padrão para jogos com DBP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PS = Frames per second, telas por segu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lho humano, acima de 12 FPS, normal não lembrar de todas imagens exibi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15 FPS desenhos animados, movimento percebido como contínuo (cérebro completa quadros, espaços e movimen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30 FPS padrão de televis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Jogos 30 a 60 FPS = ótima continuida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FPS superiores são desnecessá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Arial"/>
              </a:rPr>
              <a:t>Sync e Frame 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Outras consideraçõ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Correção por FPS: Observar o frame rate, e adicionar uma variável de controle em todas fórmulas matemáticas do jo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 FPS normal, recebe o valor norm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 FPS abaixo, recebe o valor corrigido (maior para compens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Se FPS maior, recebe  o valor corrigido, menor (para compens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"/>
              </a:rPr>
              <a:t>Algumas engines apresentam uma variável para correção de cálculos pelo FPS, não é o caso do DBP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3T16:23:20Z</dcterms:created>
  <dc:creator>A.B.</dc:creator>
  <dc:description/>
  <dc:language>en-US</dc:language>
  <cp:lastModifiedBy>A.B.</cp:lastModifiedBy>
  <dcterms:modified xsi:type="dcterms:W3CDTF">2008-09-03T20:09:43Z</dcterms:modified>
  <cp:revision>6</cp:revision>
  <dc:subject/>
  <dc:title>Sync e Frame Rate Movimentos Refinados</dc:title>
</cp:coreProperties>
</file>