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3552-467F-4990-95E8-169CD7C81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D73A-FB2B-4B24-8484-BE3C4775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A3F99-C97F-44F4-80A5-6192BBA82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A8B3-DF42-42B2-A4AD-ED14C9385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F056-FA68-45A3-B639-2198ABAB5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2447-E5E0-4303-8EBE-898F063E3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98C-5C48-4510-8E3C-FF8661372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05CB-2C5E-4AED-8346-7A51201A0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2EC4-A084-45DD-A837-8659AC97C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55C7-F6E5-461F-B362-19DD359ED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17225-5E8B-43F6-88B5-EB37D40CF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0282-216F-4974-B5FB-052D8A1C4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6577-DD43-42B3-8CD3-B1DB52913E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vimentos 3D refin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gredo para movimentos melhor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álculo mais complexo (realístico) de uma velocidade para os movi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ISSO: Utilizar variáveis para controle de velocidade, e transformação de veloc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imento / Velocidade mais realística inclu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eler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ss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ric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do simples, funciona, mas não muito eficaz, não realístic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UPKEY(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OBJECT 1,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DOWNKEY(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OBJECT 1, 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do mais adequado, transformar a velocidade, utilizando variáveis, para velocidade atual, aceleração, e centralizar o comando de movimen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UPKE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+ ace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DOWNKEY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- acel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OVE OBJECT 1, velo#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Utilizando uma velocidade de aceleração é necessário controlar a velocidade máxima e mínima que o objeto pode alcança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ica: usar variáveis para controle de velocidades máxima e míni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 forma si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velo# &gt; velo_max# then velo# = velo_max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IF velo# &lt; velo_minx# then velo# = velo_min#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Utilizando uma variável para controle de velocidade, é necessário criar uma fricção, para voltar essa velocidade a zero (inércia) e parar o mov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Necessário criar uma fricção para velocidade positiva e negativa (se for o ca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e forma si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velo# &gt; 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velo# = velo# - friccao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IF velo# &lt; 0 then velo#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ND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viment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um código composto, utilizando variáveis para velocidade, aceleração e fricção, se tem um movimento mais realístico (que é o esperado em ger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Jogando com aceleração, fricção, e velocidade máxima, transformamos o movimento de nosso player em uma nave, caminhão, ou carro de corrida, com a mudança simples de valor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54:43Z</dcterms:created>
  <dc:creator>A.B.</dc:creator>
  <dc:description/>
  <dc:language>en-US</dc:language>
  <cp:lastModifiedBy>A.B.</cp:lastModifiedBy>
  <dcterms:modified xsi:type="dcterms:W3CDTF">2008-09-03T17:12:36Z</dcterms:modified>
  <cp:revision>3</cp:revision>
  <dc:subject/>
  <dc:title>Dark Basic Pro: Movimentos 3D refinados</dc:title>
</cp:coreProperties>
</file>