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5C4-EF58-4DEF-867B-BA50BA0F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C17-7BB2-46A3-AE57-C5C6BB6F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747-3B35-49FB-996E-AAB134B8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AD5-6C25-460C-80AF-E4FE39A9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6D9-667A-4A08-B74F-A44B0A5C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8EA-33FA-4D8F-A20E-A5985BA8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6025-B89E-4513-8F10-5287F6AF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11CE-A801-44DF-BC25-A438A34C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D6A2-C80B-41C6-99F1-DA29BF9E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1DD-7314-4990-BD91-E171DB60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172-F96D-467D-8DA1-3E19267B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FBA-247A-43A4-BA71-12E16B06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0A67-2785-407A-8C72-ABDCC8B60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 3D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Detecção e trat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: trat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ódigo básico: Fazer nosso objeto parar (reverter velocida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cluir velocidade contrária, igual a aplicada, ou não permitir o move (preven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F colisao &lt;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ove object 1,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: trat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d. Básico: adaptar ângulo nosso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dicionar um ângulo simples, ajuda a encontrar um 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neira correta: adicionar um ângulo calculado, de acordo com o tipo de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F colisao &lt;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ve object 1,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recao# = direcao#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YROTATE OBJECT 1, dir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: trat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odo automát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MATIC OBJECT COLLISION Num, Raio, 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isão esférica, pelo tamanho do ra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sta = 1, procura e seta posicao livre para obj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: trat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indo manualmente a caixa de coli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KE OBJECT COLLISION BOX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Num, X1, Y1, Z1, X2, Y2, Z2, 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ordenadas em relação ao ponto zero do objeto ( + x, - x, ..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ip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0 = Caixa colisão fixa (AAB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= Caixa colisão rotacional (OOB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: trat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torno de colisão: valor para deslizar 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X = GET OBJECT COLLISION X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 = GET OBJECT COLLISION Y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Z = GET OBJECT COLLISION Z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es de retorno podem ser adicionados a posição do objeto, confere um resultado igual ao do “auto collis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: trat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em outros tipos de colisão, que serão vistos em outras a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isões com cenário estático (BS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isão e altura de terr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isão e altura de matrizes (ch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isão de objetos auxiliares para determinar saídas mais inteligentes (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af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cluir colisões básicas em nosso projeto teste (exercício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ão permitir nosso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player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cruzar paredes, responder com inteligência ao cen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vançado: perceber colisão com objetos auxiliares – simulação de bônus, itens utilizáveis, que podem ser recolh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os ocupam á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UNCE BOX = caixa de col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UNCING SPHERE = esfera de col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GONAL COLLISION = objetos mais detalh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2557440" cy="2761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859280" y="3357720"/>
            <a:ext cx="2664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ABB – axis aligned bounce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ão acompanha orientação do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is rápida possível / baixa prec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63640" y="2781360"/>
            <a:ext cx="568800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BB (OOBB) – oriented bounce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companha a ro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ior processamento / maior prec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63640" y="2833560"/>
            <a:ext cx="561672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: Caixa de coli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nto central do objeto – posição m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ordenadas limites  (X1, Y1, Z1) (X2, Y2, Z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ordenadas Box: relação ao centro do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3948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uas etap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rceber colis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agir a colisões (tratam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ark Bas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OBJECT COLLISON ON NUM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sult = OBJECT COLLISION (num1*, num2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um2* = 0 - testa colisão com tudo, retorna num objeto coli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: 1o Detec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ódigo: ativa colisão nossos objetos (única vez, para cada objeto que se deseja detect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OBJECT COLLISION 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rcebe a colisão de nosso objeto principal (todo ciclo: dentro do lo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lisao = OBJECT COLLISON (1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stra resultado da colisão na t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EXT 20, 40, “Colisão: “ + STR$(colisa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ão: Detect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19280" y="14130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: trat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isar o contex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ar velocidade, rotação, deslizar,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62643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9:33:35Z</dcterms:created>
  <dc:creator>A.B.</dc:creator>
  <dc:description/>
  <dc:language>en-US</dc:language>
  <cp:lastModifiedBy>A.B.</cp:lastModifiedBy>
  <dcterms:modified xsi:type="dcterms:W3CDTF">2008-09-02T12:01:43Z</dcterms:modified>
  <cp:revision>15</cp:revision>
  <dc:subject/>
  <dc:title>Colisões 3D</dc:title>
</cp:coreProperties>
</file>