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2F4-0A55-494B-86BE-1C775B6F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C2D-E254-4AF5-A229-0FBC3D5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3B9-F71B-45D9-AB10-B716C106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430-4353-4A47-8DBF-7F577DFB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445-B375-4FA7-A71D-A7F3BDF0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5AC-8674-4DFE-B717-53B2393C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1F0-A769-4F46-BACD-FE7AB04A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A6F-C969-48B5-9CBB-E44E9A54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074-E3D4-4B69-A450-627882BE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BC4-D863-417B-A5AC-7C77A24D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D28-8346-4472-98AD-327AED5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3A8-1B09-4986-87FC-B1730AC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C87-BA78-4967-8984-14887696E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k Basic Pr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trodução - Parte 2 </a:t>
            </a:r>
            <a:br>
              <a:rPr sz="40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la, Efeitos 2D, Inpu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nhos 2D: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IRCLE = Cria círculo 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ordenadas de centro + raio (tamanh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IRCLE x, y, tama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iox = screen width()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ioy = screen height()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IRCLE meiox, meioy,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nhos 2D: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OX = cria caixa 2D (preenchi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 determinada por INK (todos comandos 2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uas coordenadas: Ponto 1(x,y) até Ponto2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OX x1, y1, x2, y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nhos 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aplicações 2D em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dem ser usados sobre a cena 3D, como efeitos adi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s: “teste-draw.d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liação d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clas principais, função próp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tornam  1 = pressio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p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wnkey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F right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eftkey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and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ightkey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pace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hift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liação d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ra forma, avaliar tecla de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orna string = tecla pressio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EY$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 INKEY$() = “a” OR INKEY$() = “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and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la$  = INKEY$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liação d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CANCODE() = retorna código ASCII da tecla pressio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CII = valor inteiro (tabela man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SCANCODE() &lt;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“Qualquer tecla pressionada – saindo loo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liação de INPUT / M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ção atual do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= MOUSEX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= MOUSE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bir mou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 MOUSE / HIDE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ões do mouse = retorna número bo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ão = MOUSECLI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– nenhum botão pressi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– botão esq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– botão di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liação de INPUT / M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vimento do mouse no último cic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ição atual – posição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avaliar mouse como força: controle de rotação do jogador, por 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USEMOVEX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mov. 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USEMOVEY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mov. ver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USEMOVEZ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mouse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afio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ivo: testar input mouse / teclado, e outras funções apr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r programa que desenhe um cír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ver círculo com as setas (teclad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ver círculo com o mouse (m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udar o tamanho do círculo com mouse wheel (limitar tamanho max. m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mitar o círculo dentro da te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a 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os de t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display mode x,y,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display mode 640,480,16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display mode 800,600,3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modo 800x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o jan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window on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modo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window size x,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tamanho da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window position x,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posiciona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ximize window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max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window of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volta tela ch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a 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cobrir / utilizar limites d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argura = screen width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ura = screen heigh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de uso = centro da t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= screen width()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Y = screen height()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funções Tela / Jan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ste-window.db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os com formatação, fonte e posi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 X,Y, “mensag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matação do 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XT FONT “Ar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XT SIZE tam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XT TO ITA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XT TO BOLDITA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XT T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 do texto definido p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K cor1, co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xto padrão – sem cor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t text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xto com background em 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t text op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xto centralizado, a partir de coorde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ENTER TEXT X,Y, “MENSAG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Já considera font style e size (au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xto no meio da tela, 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X = screen width()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Y = screen height()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ENTER TEXT X,Y, “Meio da Tel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ando Text exibe strings = 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verter valores para most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vers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lor = VAL(string$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retorna valor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lavra$ = STR$(valor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retorn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eiro = INT(valor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retorna valor in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s text: “teste-text.db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, mostra coordenadas do mouse na t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x = MOUSE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y = MOUS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 20,20, “Mouse X: “ + STR$(po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 20,40, “Mouse Y: “ + STR$(pos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nhos 2D: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E = Cria linha 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ordenadas de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nto1(x,y), Ponto2 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E x1,y1, x2,y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E 0,0, screen width(), screen heigh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3:53:27Z</dcterms:created>
  <dc:creator>A.B.</dc:creator>
  <dc:description/>
  <dc:language>en-US</dc:language>
  <cp:lastModifiedBy>A.B.</cp:lastModifiedBy>
  <dcterms:modified xsi:type="dcterms:W3CDTF">2008-08-11T20:45:29Z</dcterms:modified>
  <cp:revision>13</cp:revision>
  <dc:subject/>
  <dc:title>Dark Basic Pro Parte 2 – Efeitos 2D</dc:title>
</cp:coreProperties>
</file>