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DCE6-458E-49F8-B828-006A3862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ED0D-FD9A-4F9B-9E4F-E187BF17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6B6D-AE0C-4192-B4D2-7C46B287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B526-6849-4FA5-8360-F1970238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FDA7-73DF-4135-BA39-8D09C3AB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E8B4-9B26-487F-B9AA-85766FF8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285C-92BD-4C66-8071-96A11F59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FAE8-17E5-4916-87DE-537BFFE5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EC80-2726-4627-A181-A720E747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C75-0231-40AD-949D-A8D2856E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2280-0723-41D2-9B03-8848A44D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B287-6DF3-4731-89F3-20CE5DC4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1B5C-37B5-43CE-80CC-6D260FE1C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jeto de jogos: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rramentas de desenvolvimento rápido 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Dark Basic Pr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Vetores (</a:t>
            </a:r>
            <a:r>
              <a:rPr b="0" i="1" lang="pt-BR" sz="4400" spc="-1" strike="noStrike">
                <a:solidFill>
                  <a:srgbClr val="ffffff"/>
                </a:solidFill>
                <a:latin typeface="Arial"/>
              </a:rPr>
              <a:t>array</a:t>
            </a: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etores precisam de declara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im vetor1(1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etor1(1) = 10 : vetor1(2) =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im vetor2#(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etor2#(1) = 0.5 : vetor2#(2) = 1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im vetor3$(1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etor3$(1) = “segunda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Oper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ritméticos: + - *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: b = a + 10 : c = a *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lacionais: &gt; &lt; &gt;= &lt;= &lt;&gt; = (=&gt;, =&lt;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: a &lt;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ógicos: and or not x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: (a &lt; 10) and (a &gt;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Condicional (I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a único comando (if th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a &gt; 10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print “Maior que 10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a bloco de comandos (if / else / endi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a &gt;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int “Maior que 10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int “Menor ou igual a 10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Condicional (SELEC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a o teste de várias condiçõ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ELEC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ASE 1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  print “nível número 1” :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ND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ASE 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int “nível número 2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bloco de coman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ND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ASE DEFAUL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 print “outro número”: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ND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ND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Comentá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entar códigos = organização = necess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 de REMARK, anotação, observ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ta linha é um coment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` a crase também indica coment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co de comandos comen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últiplas linhas, pode isolar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W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mporizar eventos, fun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guardar tecla, ação espec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WAIT KEY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- aguarda tec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WAIT MOUS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- aguarda botão do m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WAIT 10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- aguarda X mili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output b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INT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= exibe mensagens / variáveis t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,” = mensagens / valores na mesma lin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;” = mantém o cursor na mesma lin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ome$ = “Meu no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dade =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int “Mensagem: 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int nome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int 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int “Mensagem “, nome$, “ - “, 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input b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INPUT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“mensagem”, variá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pós ENTER, a variável recebe o valor digi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INPUT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“Qual o número?”,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um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int “numero digitado: “, num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INPUT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“Qual o nome?”,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ome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int “nome digitado: “, nome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res:  RGB (Red, Green, Bl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mponentes de cor variam de 0..2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ranc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GB(255,255,25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et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GB(0,0,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zul pur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GB(0,0,25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16 milhões de combinações = 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Outros coman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LS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– limpar a te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LS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cor – limpa a tela, nova cor de f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LS RGB(0,0,255)  = limpa a tela, fundo az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T CURSOR X,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ta posição do cursor para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int,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input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mandos 2D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ordenadas de te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0,0 = topo da tela, esque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trodução a Dark Basic 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inta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ariáv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per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ndicio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put / Output bá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aços e repeti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Outros coman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INK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cor escrita, cor f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termina cor para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in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npu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mandos 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r de fundo funcional para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npu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mandos 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LS RGB(0,0,2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T CURSOR 100,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K RGB(250,250,0), RGB(0,0,2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INT "Agora texto em cores, e posicionado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WAI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Laços e repeti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OR / TO / N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úmero de repetições finito, passo definido (step) ou incremento de 1 (defaul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x = 1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250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TEP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LS RGB(0,0,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WAIT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NEXT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Laços e repeti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WHILE / END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petição enquanto condição verdad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em incremento automático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sta condição no iní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posx &lt; 5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ET CURSOR posx,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INT “Texto movendo em X com WHI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WAIT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sx = posx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ND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Laços e repeti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PEAT / UN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petição até que condição seja verdad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em incremento automático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sta condição no final, roda sempre a primeira v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T CURSOR 100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INT "Movendo Texto em Y com REPEA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y = y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AIT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NTI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&lt;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Laços e repeti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O /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Laço infinito, sem condição pré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de ser quebrado com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XIT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= sair laç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de ser quebrado com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ND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= fim programa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DEV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ser usado como laço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rincipal do programa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O / LOOP: enquanto programa roda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ma repetição a cada tela renderizada (F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ntro do laço principal inserimos todas seções do progra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ntrole de movimentos, coli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ntrole de adversários, regras do jog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Laços e repeti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O /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ODA até senha correta para saí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trings podem ser comparadas com simples sinal de igualdade = (maiúsculas e minúsculas importam neste ca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INT “Descubra a senha ou fique trancado para semp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NPUT “Qual a senha para saída? ”, palavra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palavra$  = “socorro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INT “HAHAHA !!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afio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bjetivo: testar comandos aprend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riar pequeno jogo texto, de adivinh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ostrar texto dica a cada pergunta (3 pergunt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Usar comandos print / input para mostrar / recolher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mandos IF / ELSE determinar correto ou er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omar pontuação com uso de vari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o final, usar SELECT / CASE mostrar número de acer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sicionar textos na tela, usar cores e movimentos bás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X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ergunta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ICA: É um número primo, menor que 100, maior que 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ivinhe qual o número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Ferramenta de Desenvolvimento Rápido de Jogos 2D e 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RAD =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Rapid Application Developmen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Linguagem Basic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(Beginner's All-Purpose Symbolic Instruction C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ntagem: Linguagem muito simples de u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svantagem: Pouco estruturada, permite códigos pouco claros (cuid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Facilidade = Velocidade desenvolv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rramentas RAD (em g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umas limit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número de elementos (obje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recursos (complexida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ações no tamanho do pro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dicado pa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jetos menores, de escopo bem defi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jogos casuais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tótipos de jogos mai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senvolvimento de d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resentação de idé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so de ferramentas (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engine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) mais robustas para projetos maiores, topo de mer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ogramas fonte: &lt;arquivo&gt;.D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xto plano, qualquer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Gerência e Configuração do Projeto: &lt;arquivo&gt;.db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mpilador (.dbpro, .dba =&gt; .ex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Help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 Documentação On-Line (F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Sintaxe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de linhas de comando sem “;” ou “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o de “ : ” para mais comandos na mesma linha de códi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ão há distinção entre maiúsculas / minúsc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ão há necessidade de declaração específica de variáve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os nomes são entendidos como novas variáveis =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ito cuidado com i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Variáv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áveis valor inteiro = nome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= 10 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áveis valor real (vírgula) = nome#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# = 0.1 +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áveis string = nome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me$ = “text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nome da variável, com # ou $ indica seu tipo: não é necessário declarar previ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BPro: Variáv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UIDADO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: variáveis inteiro aceitam receber números com vírgula (sem apresentar erro), mas não guardam o valor corretamente. E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 = 1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# = 1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int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int b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Wai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9:54:45Z</dcterms:created>
  <dc:creator>A.B.</dc:creator>
  <dc:description/>
  <dc:language>en-US</dc:language>
  <cp:lastModifiedBy>A.B.</cp:lastModifiedBy>
  <dcterms:modified xsi:type="dcterms:W3CDTF">2008-08-07T12:35:18Z</dcterms:modified>
  <cp:revision>51</cp:revision>
  <dc:subject/>
  <dc:title>Projeto de jogos: Ferramentas de desenvolvimento rápido </dc:title>
</cp:coreProperties>
</file>