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2FD-2AFF-441D-824B-719AACA6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EEB-D96E-42E6-8FEB-29A79BF6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1F7-1600-49C6-A4A8-6ABB48D6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C0B-FD45-446F-8CA1-4F2327D4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1E4-0544-429B-B6E1-95DB523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1F1-643B-4EC8-B5FC-72598765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AC4-C37B-4922-B7F3-CA572CAB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3E7-FE82-4FC9-9966-6EB47415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C23-8B64-4327-A7E8-F61D3582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710-01BF-4296-9F85-6C5D8E27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29C-A7AF-414E-A687-131245A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9B0-A35D-42E2-AF3F-A23FB73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A6C8-03FC-4DD2-B69A-0C82530EC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ídeos (Animation), D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ídeos = Animation (DB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tos permitid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VI, MPEG, Quickti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layback 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ção básica em jo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berturas, conclusões de fase, cut-sc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ídeos em texturas: televisão na cena 3D, projeções, efeito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ção de vídeos, 1o L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ANIMATION “filename”,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víde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Y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OP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es adicion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P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TE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USE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ME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ber o final de um víde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 = ANIMATION PLAYING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ANIMATION PLAYING(n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20,20, “Final do Víde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ível posicionar vídeo na tela, determinar escala (taman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CE ANIMATION num, x, y, dx, 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odar em tela che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= 0, Y = 0 , dx = SCREEN WIDTH(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y = SCREEN HEIGH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ível mover o vídeo (posição e escala) em tempo real, alternando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odar o vídeo em uma imagem (tex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 a imagem for textura de objeto = vídeo na tex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LAY ANIMATION TO IMAGE num vid, num imagem, x, y, dx, 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X,Y = coordenadas de início, relação a 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X, DY =  tamanho (coordenadas finais), relação a 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ídeos / D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r vídeos de 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DVD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Y ANIMATI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terminando número do título e cap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DVD CHAPTER Number, Title Number, Chapter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6:26:38Z</dcterms:created>
  <dc:creator>A.B.</dc:creator>
  <dc:description/>
  <dc:language>en-US</dc:language>
  <cp:lastModifiedBy>A.B.</cp:lastModifiedBy>
  <dcterms:modified xsi:type="dcterms:W3CDTF">2008-10-08T16:41:31Z</dcterms:modified>
  <cp:revision>4</cp:revision>
  <dc:subject/>
  <dc:title>Dark Basic Pro: Vídeos (Animation), DVD</dc:title>
</cp:coreProperties>
</file>