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714-1D47-4220-91D9-060E2BFC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438-14F5-47B1-A3C3-B1294F0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52D-0D27-47C4-BA45-2D96DDE1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142-478E-4D51-B360-9AD8404B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387-2F2A-492D-A0A5-18CF9BF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4D8-152D-44B3-A3D6-FCEBF4A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F12-25BF-4025-8414-04C3FA5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F1C-0502-488F-AA42-A4DE7BD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E82-D6F7-45E4-84D1-9CABBCA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B76-FF6D-43B9-8040-4FD3012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AF2-8553-4FA7-B9D9-5CF27ED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8B6-01AC-45A0-8814-57815E8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685-F610-4FDF-B669-A534C599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ype 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inform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LONG num, var_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FLOAT num, var_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FILE num,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de variável gen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STRING num, string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de texto /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ndo inform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LONG num, var_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FLOAT num, var_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FILE num, 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ção sem especificar tipo – gen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STRING num, string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ção de textos /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ciação bá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ndo valores em seu respectivo tipo = economia de espaço (em d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ndo em FLOAT, lendo em STRING = erros de valores n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e arquivos: conhecer a organização, ordem e tipo de valores que foram gravados / serão 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hecer a estrutura (organizar): es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venir erros antes de leitura de arqu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 = FILE EXIST(File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hecer o diretório do j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turn String = GET DIR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ar o diretório do jogo: para leitura de arquivos em geral (e grav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DIR Path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DIR “C:\MEUJ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permite um bom controle de arquivos: copy, delete, rename, diretor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ultar manual para funções extra – caso necessário (FILE COMM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tura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 e otimizar o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r programação, diminuir o número de variáveis nominais =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Precisamos de variáveis específicas para cada objeto / elemento do jo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dade, animação, posição, est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ção de TYPE / estrutura de dados facilitando nosso traba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YPE nome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1 as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2 as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3 as 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ND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iáveis tem funcionamento normal, só aninhadas dentro de uma estru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variáveis FLOAT neste caso, não é necessário usar # após o nome da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tidade e tipo de campos dentro do TYPE defini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clarando uma variável do tipo que cri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mevar AS nome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ma estrutura útil para nossos objetos (varia de acordo com o projet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YPE ent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y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z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y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z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tad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ca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mp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clarando objetos / variáveis de controle com tipo de estrutura cri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ER AS ENT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ando a estrutura / variá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er.X = OBJECT POSITION X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1, player.vel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ionamento normal, a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riavel_nome.campo_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ção de arquivos em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r configu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r rec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r comportamentos, pos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r / salvar valores em gera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 imaginação = recurso muito útil e necessário para algumas funções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s em geral, dois tipos básicos de abertura para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itura: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vação: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PEN FILE TO WRITE “filename.ext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PEN FILE TO READ “filename.ext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 mantém-se aberto: sempre fechá-lo após uti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LOSE FILE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o passo: abrir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o passo: ler / escrever conteúdo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o passo: fechar o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tura ou Gravação de informações: saber o tipo de conteúdo que será lido / esc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23:35Z</dcterms:created>
  <dc:creator>A.B.</dc:creator>
  <dc:description/>
  <dc:language>en-US</dc:language>
  <cp:lastModifiedBy>A.B.</cp:lastModifiedBy>
  <dcterms:modified xsi:type="dcterms:W3CDTF">2008-10-15T13:33:20Z</dcterms:modified>
  <cp:revision>7</cp:revision>
  <dc:subject/>
  <dc:title>Dark Basic Pro: Type, Arquivos</dc:title>
</cp:coreProperties>
</file>