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0189-6F21-4084-98DF-113E662D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7F0B-7730-4906-B895-1A4106CF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D652-B32A-4EEA-8C65-CCBC5FCD0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9249-0380-49C0-A0F6-0E7FB661E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190E-6D39-4315-94AA-A45358D1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E72D-BBFF-4932-8634-07EF3F51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131E-7C9E-4418-9DDD-E43267E4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35B5-6904-4C1C-A7D4-D038076F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AEE9-AB3E-45B3-9CBA-7839D674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2051-5C65-401B-8686-5743BB85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4F89-BCAD-4C80-9E69-33E57959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CD2C-0231-4545-B32A-8A12D97A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09CB-6798-457E-9A74-2AD593A10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ark Basic Pro: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Skybox: Cé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Sky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kyCub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tilização de um cubo como limites (céu e horizontes do jog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Vantagem: exibição de imagens próprias para cada lado – frente, trás, leste, oe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kySphere = mais gené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kyCube = horizonte mais detalhado, compl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Sky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nstruindo planos manualmente (horizont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EM ** CRIA LADO 1 - F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Make Object Plain 21, tamanho#, tamanho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OSITION OBJECT 21, 0, 0,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exture Object 21,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EM ** CRIA LADO 2 - DIRE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Make Object Plain 22, tamanho#, tamanho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OSITION OBJECT 22, 1000, 0,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YRotate Object 22, -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exture Object 22,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(CRIAR TODOS OS LA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Sky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KYBOX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déia básica: criar um box em torno do player, mostrando horizontes, com imagens específ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648320" y="1765440"/>
            <a:ext cx="403848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Sky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exturas para skybox: altamente preparadas, combinado os lados para fechar o ambiente corret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55640" y="357336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276720" y="3573360"/>
            <a:ext cx="2187360" cy="2187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848200" y="3665520"/>
            <a:ext cx="2900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uras para cada lado, cima e baixo, prepar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BO = seis l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Sky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619280" y="148428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815480" y="1504800"/>
            <a:ext cx="45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nos simulando / criando um SKY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Sky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kybox: simulando horizonte distante, mover os planos – o box – de acordo com movimento do jog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over todas paredes do sky junto com o 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ITION OBJECT 21, playerx#, 0, playerz# +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ITION OBJECT 22, playerx# + 1000, 0, playerz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ITION OBJECT 23, playerx#, 0, playerz# -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ITION OBJECT 24, playerx# - 1000, 0, playerz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Sky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aneira otimizad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tilizar um modelo X para Skybox, já preparado, texturizado de acor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vita criação de cada parede em sepa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imular distancia: move o modelo do Sky junto ao player – da mesma 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AD OBJECT "skybox.X",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CALE OBJECT 2, 3000, 3000, 3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Sky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619280" y="14130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834920" y="1484280"/>
            <a:ext cx="44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jeto .X como SKYBOX = mais prá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Sky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kybox = Céu do j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mplemento de cená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ostrado no horizonte, preenchendo áreas sem objetos de c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antém escala – distância, simulando um horizonte sempre distante (análogo ao mundo re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Sky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 simples de fundo (background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 aplicações 2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S RGB(0,0,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 aplicações 3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DROP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R BACKDROP RGB(0,0,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Sky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19280" y="134136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39960" y="1576440"/>
            <a:ext cx="55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CKDROP COLOR – cor simples para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Sky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ky Sp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sfera – cúpula - que envolve todo o mundo 3D, com textura de cé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amanho maior que o mundo criado (envolvendo ele por intei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amanho negativo – faces voltadas para den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Sky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eparando uma SKYSPHERE si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AKE OBJECT SPHERE 2, 2000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LOAD IMAGE “ceu02.jpg”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TEXTURE OBJECT 2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CALE OBJECT TEXTURE 2, 4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ET OBJECT COLLISION OFF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OSITION OBJECT 2, 1000, 0,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588000" y="3213000"/>
            <a:ext cx="234504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Sky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619280" y="148428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767960" y="1557360"/>
            <a:ext cx="47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kysphere: Uma esfera texturizada como cé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Sky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ropriedades utilizávei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(válidas para todos objet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KY sem ser afetado pela luz da c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ET OBJECT LIGHT 2,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KY com transformação de cor (emiss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ET OBJECT EMISSIVE 2, RGB(200,0,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Sky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788000" y="170028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15600" y="4941720"/>
            <a:ext cx="35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 influência de luz (const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61440" y="4960800"/>
            <a:ext cx="371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formação de cor (EMISS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de sofrer transformação 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o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3:25:02Z</dcterms:created>
  <dc:creator>A.B.</dc:creator>
  <dc:description/>
  <dc:language>en-US</dc:language>
  <cp:lastModifiedBy>A.B.</cp:lastModifiedBy>
  <dcterms:modified xsi:type="dcterms:W3CDTF">2008-09-15T15:48:56Z</dcterms:modified>
  <cp:revision>4</cp:revision>
  <dc:subject/>
  <dc:title>Dark Basic Pro: Skybox: Céu</dc:title>
</cp:coreProperties>
</file>