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B8A-E603-4A5C-8BFC-77ACE26B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62E-90FA-471D-B572-BDFC7827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773-7E9A-486B-B7BB-D30AE9B8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CC0-E0D9-400B-87DB-5891FA72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AE6-C994-447C-9CFC-E94B37A2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952-3E86-45DC-A046-0A843E7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491-B264-4D55-8D6E-2181014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4EF-F3D9-4A04-9123-8DD1CDF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86A-7227-407B-84C8-511C4DDA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A97-CEC9-4CDF-883D-62A8724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15F-72C9-4F85-BC38-D3B5C942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1D4-881F-43B5-A0DB-936FA17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2F4-370C-4CB0-AA8E-50A4042F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brar partículas =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 CHAOS num,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LAG de chão para partículas, parar no chão ou não (altura Y=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 FLOOR num,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as 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LOR PARTICLES num, r, g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r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OTATE PARTICLES num, angx, angy, ang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 todas partículas junto(usando o eixo central como o meio de todas partíc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r desligar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DE PARTICLES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PARTICLES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s / Objetos diferenciados, com menos prop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ção básica = 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faíscas em uma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objetos para isso: onera o processamento, trabalh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partículas (elementos diferenciados), menor processamento, fac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r controle, menos propr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 de vida = usado para efeitos por tempo deter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em (criadas) de um emi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or tem posição no mundo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podem mudar a ro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tem velocidade, gra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baseadas em um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m ter coloração 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r partíc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PARTICLES num, num imagem, freqüência, r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üência = número de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o = tamanho das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IMAGE "fire01.BMP"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PARTICLES 1, 2, 50,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52720" cy="356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3213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ículas criadas inicialmente com emissor no ponto 0,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cionamento de dois 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PARTICLES num 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4535280" cy="34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e todas partículas junto com o emi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x: acompanhando o player, levando as partículas já emi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cionando apenas o emiss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PARTICLE EMISSIONS 1,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79640" cy="350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3305160"/>
            <a:ext cx="34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 emissor (novas partículas), mantendo as partículas já emi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ito de r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as 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id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PARTICLE GRAVITY Num,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negativo = partículas sob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 de vida (default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S LIFE num, tempo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dade inicial das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luenciada depois pela gra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PARTICLE VELOCITY num, v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EED = velocidade de cálculo das partículas (default 0.005 = len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PARTICLE SPEED num,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6:50:12Z</dcterms:created>
  <dc:creator>A.B.</dc:creator>
  <dc:description/>
  <dc:language>en-US</dc:language>
  <cp:lastModifiedBy>A.B.</cp:lastModifiedBy>
  <dcterms:modified xsi:type="dcterms:W3CDTF">2008-10-08T18:28:32Z</dcterms:modified>
  <cp:revision>8</cp:revision>
  <dc:subject/>
  <dc:title>Dark Basic Pro: Sistema de Partículas</dc:title>
</cp:coreProperties>
</file>