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12B4-AD81-427D-B45D-C23D3637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A942-ED0C-44A1-BDAD-CCA95D5B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B66E-23B2-474D-9202-27B6835C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FC11-E2C7-48C8-8CA8-86B7A5EB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C1D4-FDD8-43B3-B78E-BC708810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B31F-C97E-4D0A-ACEE-D5343090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D117-B415-4123-811F-436D0A3C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93A3-35C1-4373-9AF4-11DD053C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EE04-D7B2-4F1D-B879-B3F82EEC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D37D-2BAC-46A0-8472-CB30D4F8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FD68-6355-4B59-9BA2-283EBF91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54CD-3177-4D7E-A7BD-8A8AC939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F932-0164-4B54-A3DF-B2BFB42FC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ragmosoft.com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odelos 2 - Anim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emplo: “Mummy.X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nimações (descobertas com Fragmot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0..150 – Pa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151..200 – At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200..250 – Ating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250..300 – Des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300..400 – Qu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400..450 – Lev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450..550 – Camin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550..650 - Corr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dar animação única (básic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OP OBJECT 1, 0, 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 OBJECT SPEED 1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árias animações = necessário controle por variá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ras para ativar uma animação específica = cont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xemplo – animação parado + camin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gra simples: velocidade = camin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macao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velo# &gt; 0 then animacao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animacao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P OBJECT 1, 0, 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 OBJECT SPEED 1,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animacao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P OBJECT 1, 450, 5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 OBJECT SPEED 1,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89440" y="5084640"/>
            <a:ext cx="42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Velocidades diferentes por anim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62880" y="2349360"/>
            <a:ext cx="33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Regras para ativar anim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ntrole de animações avanç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lgumas animações tem que rodar até o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erceber o quadro atual / determinar o quadro  final da anim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ó trocar a animação quando a animação estiver comp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tilizar variáveis de controle: quadro_atual, quadro_final, proxima_ani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xemplo: animação desvia – rodar até o 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nimacao &lt;&gt;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imacao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velo# &gt; 0 then animacao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quadro_atual = OBJECT FRAME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F quadro_atual &gt;= quadro_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nimacao = proxima_animac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F animacao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LOOP OBJECT 1, 250,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 OBJECT SPEED 1,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quadro_final = 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oxima_animacao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3440" y="2133720"/>
            <a:ext cx="40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ra de animação por velocida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ceção animaçã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3280" y="3357720"/>
            <a:ext cx="42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cebo quadro atual /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do animação no final da anim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16000" y="5013360"/>
            <a:ext cx="37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imação: defino quadro final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óxima animação para ro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19280" y="1197000"/>
            <a:ext cx="6467400" cy="4851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635280" y="1413000"/>
            <a:ext cx="49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ultado: modelo com animações básicas, andar, parada, e desvi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respeitando animação desvio – até o fin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ções requerem variáveis de cont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 animação não executa alguma função (andar por exemp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meio de uma animação executa alguma função (atirar por exempl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ância de sincronizar animações com ações do jogo – visual / funciona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 bom controle de animações demanda um bom código – percebendo exceções e planejando regras para ativar anim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ódigo básico de animações pode ser baseado nos ex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ceber as regras de cada jogo específico, e programá-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ger animações especiais que precisam ser rodadas até o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/ perceber o quadro atual e final das anim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balhoso mas possível = necess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tilização de modelos para objetos complexos (.X, .3DS, .MD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odelos conté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formação da malha (mesh) = 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xtura e mape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adros = anim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e de animações = número de quadros (para cada mov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.10 = Movimento pa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.20 = Camin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..40 = Cor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ção de quadros na criação do modelo / das animaçõ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Número total de quadros (animação) de um mode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quadros = TOTAL OBJECT FRAMES(n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etar quadro para objeto (diretam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T OBJECT FRAME num,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odar uma anima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LAY OBJECT num, start, end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LOOP OBJECT num, start, end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elocidade da anima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T OBJECT SPEED num, veloc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odar animação corretamente: necessário saber os quadros usados para o mov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 organização do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isualizar modelo / quadros – utilizar programas auxili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ditores de modelos 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ragmotion, Milkshape, MED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ragmotion (</a:t>
            </a: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agmosoft.com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ermite utilização sem registro (restriçõ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mporta / Exporta modelos X, 3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isualiza mode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ermite transformações básicas (orientação, escala, posição, rotaç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ermite explorar quadros da ani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47636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403280" y="1268280"/>
            <a:ext cx="648036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3:47:05Z</dcterms:created>
  <dc:creator>A.B.</dc:creator>
  <dc:description/>
  <dc:language>en-US</dc:language>
  <cp:lastModifiedBy>A.B.</cp:lastModifiedBy>
  <dcterms:modified xsi:type="dcterms:W3CDTF">2008-10-06T15:05:50Z</dcterms:modified>
  <cp:revision>8</cp:revision>
  <dc:subject/>
  <dc:title>Dark Basic Pro: Modelos 2 - Animações</dc:title>
</cp:coreProperties>
</file>