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3F78-B4B6-4BD1-ACFE-090F59D4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20FA-4CF4-4CE8-B2CB-EAA8988D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F0A0-9C5A-4E8A-9678-C55FEC1B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D0F0-AC8D-4313-981C-D4C392DA0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931C-DB5A-45E6-9937-1119A947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3960-332E-4AA1-9A1B-46021834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2B5D-DAD4-432D-A342-F7EEC66A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2DA7-5D38-4FC2-BEEA-46DD0DD7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C9EE-025C-4648-9CEA-FAECD758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627C-C6EB-471C-8F91-12BB0E17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51A6-5EFC-4B5D-8777-67FA42B4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8A62-84D4-48BE-9407-94BA6892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9817-08DB-464A-BF13-A1965A66C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ark Basic Pro: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Ilumin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lumin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z dire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enadas indicam direção (0,0,0) = centro da lu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ão possuem posição (infini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067280" y="1413000"/>
            <a:ext cx="3457440" cy="3457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00000" y="5300640"/>
            <a:ext cx="65725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 DIRECTIONAL LIGHT NUM, X, Y,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luminação / F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g: neb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de na cena, com cor, e distância (da câmera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G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G DISTANCE distâ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G COLOR c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ância = máximo onde o FOG fecha a cena, cobre os objetos. Antes, fade tipo neb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luminação / F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o básico: neblina, escuridão, á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68360" y="2349360"/>
            <a:ext cx="4103640" cy="307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716360" y="2349360"/>
            <a:ext cx="414036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lumin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ropriedades dos obje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ofrer influência (ou não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ET OBJECT LIGHT num,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ET OBJECT FOG num,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ET OBJECT AMBIENT num,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Flag 1 = ativo, 0 = desativo (não receb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lumin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ropriedades dos obje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eflexão da luz: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PE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ET OBJECT SPECULAR num, C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r de reflexão (combinado com pow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 OBJECT SPECULAR POWER num, va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 0 = reflexao máxima da lu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luminação: SPEC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716360" y="1916280"/>
            <a:ext cx="4038840" cy="3028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28000" y="5229360"/>
            <a:ext cx="28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CULAR POWER =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flete luz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91280" y="5229360"/>
            <a:ext cx="296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flexo de luz contro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Puxando para az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lumin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riedades dos obje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T OBJECT AMBIENCE num, c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ração do objeto (adicional) relacionada a luz ambiente, e reflex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T OBJECT DIFFUSE num, c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ração do objeto (adicional) relacionada a luzes dinâmicas, e reflex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lumin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050920" y="1341360"/>
            <a:ext cx="5034240" cy="3775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254600" y="5373720"/>
            <a:ext cx="67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o com DIFFUSE e AMBIENCE azul (metaliz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onentes de cor podem alterar o objeto complet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lumin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riedades dos obje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T OBJECT EMISSIVE num, c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ração do objeto (adicional), EMISSIVE cor que o objeto emite, indiferente de ilumin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lumin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 DOS OBJETOS (vários componen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TEXTURA (NORM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Iluminação da cena (AMBIENT + LIGHT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Luzes dinâm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COLOR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DIFF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AMB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EMIS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lumin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bjetos e C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uz ambiente 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uz default de cena (LIGHT NUM 0)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uz(es) dinâmica(s) (luzes extras)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uz própria do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priedad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eflexão: como reage com a lu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luminação próp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lumin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z amb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uminação geral da cena, luminosidade mínima de tu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 AMBIENT LIGHT va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OR AMBIENT LIGHT c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 ambiente: 0..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lumin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ipos de Lu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1: Point (de um ponto até outro ponto X,Y,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2: Spot (tipo lanterna – quase point lig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3: Direcional (sol, do infini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MAKE LIGHT num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(0 = default, 1..7 = luzes do jogo, personalizáve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lumin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Luz normal de cena (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LIGHT NUM 0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int Light  =  padrão da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uz com direção: cria uma iluminação 3D, lados mais ou menos expostos a lu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HIDE LIGHT 0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(deslig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HOW LIGHT 0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(lig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HIDE / SHOW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válido para todas luz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lumin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álido para todas fontes de lu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 da lu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OR LIGHT num, c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OR LIGHT 1, RGB(0, 0, 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cance da Luz (distancia açã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 LIGHT RANGE num, dist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 LIGHT RANGE 1, 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lumin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int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e um posição X,Y,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pontando para uma posição X,Y,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ossui posição e destino (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MAKE LIGHT 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OSITION LIGHT num, posx, posy, pos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OINT LIGHT num, destx, desty, des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796000" y="1557360"/>
            <a:ext cx="253980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lumin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pot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spécie de luz direcional, com abertura angular ( spo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ssui pos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ssui ângulo (direç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24360" y="1628640"/>
            <a:ext cx="2953080" cy="2952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53120" y="4292640"/>
            <a:ext cx="588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AKE LIGHT 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POT LIGHT num, ângulo 1, ângu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OSITION LIGHT num, X, Y,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ROTATE LIGHT num, angX, angY, ang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lumin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Luzes direcion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pontam para uma dire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ão tem ponto de origem, cobrem todo ma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maginar ponto 0,0,0 como origem, setar direção com coordenadas de mapa X,Y,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ordenadas X, Z = dire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ordenada Y = a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3:13:29Z</dcterms:created>
  <dc:creator>A.B.</dc:creator>
  <dc:description/>
  <dc:language>en-US</dc:language>
  <cp:lastModifiedBy>A.B.</cp:lastModifiedBy>
  <dcterms:modified xsi:type="dcterms:W3CDTF">2008-09-18T12:13:20Z</dcterms:modified>
  <cp:revision>9</cp:revision>
  <dc:subject/>
  <dc:title>Dark Basic Pro: Iluminação</dc:title>
</cp:coreProperties>
</file>