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C57-E29F-49B4-81BF-6C924A1D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E44-0BEE-40F2-A107-3440956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26B-C605-4FA2-B3FB-217C8AF0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EAC-B9C7-45DA-9CCB-ABE22A7D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899-1941-48DF-9EF2-0ECF2040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6BE-5240-417D-AF46-541A236C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323-894E-4F3F-8E06-F4AE2767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F690-0DCA-49C3-AFB8-40F77ECC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E28-F545-4FBE-8A60-1317FFE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96A-83F7-403C-8912-8C00FC4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F87C-62BF-4E73-AE3E-9166A52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290-5016-4DB1-9CC3-43277C13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C7B-ABD8-4799-ACE3-CD54BA10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IA – Part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60360" y="119700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ratamento de coli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ao player (com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âmetr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 rô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tamento 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i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ber coli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lizar: utilizando variáveis da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: deslizamento só possível com caixas de colisão bem definidas (para cena com primitiv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clarando caixas de colisão (na criação da cen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OBJECT BOX 21, 100, 200,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ITION OBJECT 21, 300, 0,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OBJECT COLLISION BOX 21, -50, -100, -10, 50, 100, 1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040120" cy="2338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68560" y="4745160"/>
            <a:ext cx="554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IXA COLISÃO: distância  em relação ao 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objeto (mínima e máxi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lhendo os valores para deslizamento no momento da coli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isao = OBJECT COLLISION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colisao &lt;&gt;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x# = GET OBJECT COLLISION X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y# = GET OBJECT COLLISION 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z# = GET OBJECT COLLISION Z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bbe0e3"/>
                </a:solidFill>
                <a:latin typeface="Arial"/>
              </a:rPr>
              <a:t>REM SUBTRAIR O RESULTADO DA POSICA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1, x - cx#, altura#, z -cz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: tratamento avanç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ando um estado auxiliar de des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ô andando = tem um destino defi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isão = entra em estado de desv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quece temporariamente seu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da para lado, e anda, tentando sair da colisão a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 um timer para des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 a seu estado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908000" y="1195560"/>
            <a:ext cx="51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ando colisões: prev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ndo 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to auxiliar, a frente do rob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são do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ecipar colisão = antecipar desvio (trat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a no comport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s inteligente = 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cionando objeto auxiliar com posição relativa do rob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x# = robo1.x + 100 * SIN(robo1.an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z# = robo1.z + 100 * COS(robo1.an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y# = robo1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TION OBJECT 3, nx#, ny#, nz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22960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o : planejar o compo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queremos do inim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o : identificar os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uzir o comportamento em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o : identificar mudança de 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que faz passar de um estado a ou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o : programar o esquema de 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ar , adap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19640" y="1197000"/>
            <a:ext cx="4968720" cy="496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9120" y="1504800"/>
            <a:ext cx="27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MPLO: game n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zer esboço do que esperamos do inimigo, da 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341360"/>
            <a:ext cx="83516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565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3573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0536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20000" y="4508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371628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414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9640" y="4653000"/>
            <a:ext cx="288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1080" y="1628640"/>
            <a:ext cx="41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/ TRADUZIR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4941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24000" y="5229360"/>
            <a:ext cx="129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341360"/>
            <a:ext cx="83516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2565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357336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400536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4508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3213000"/>
            <a:ext cx="505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371628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19640" y="414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59640" y="465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2880" y="1628640"/>
            <a:ext cx="45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CAR MUDANCAS DE ES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66520" y="249228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ia &lt;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4000" y="2924280"/>
            <a:ext cx="360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5440" y="306864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&lt; 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35640" y="3429000"/>
            <a:ext cx="28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3280" y="373680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&gt; 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00720" y="4941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651280" y="530064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6160" y="551664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Z  &lt; player -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9080" y="422100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yer.z +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yer.x +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1618920" y="3645000"/>
            <a:ext cx="7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720" y="2276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2160" y="270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86520" y="321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4216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26520" y="4149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344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ercebendo o que se quer, identificando os estados e o que leva a mudança iniciamos a programação da 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0. INICIA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estado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x = playerx# +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y =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z = playerz# +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TION OBJECT robo1.objeto_num, robo1.x,   robo1.y, robo1.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obo1.estado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A: robô deve cuidar de todos seus aspectos, tiro, animação, colisão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ódigos semelhantes ao player, mas percebendo a diferença: tem que ser au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. Tiros: mesmo esquema, apenas baseando a bala (ponto de saída e direção) no rob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413000"/>
            <a:ext cx="835200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icial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292428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3500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3933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d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4076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99736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3573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149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2160" y="162864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NDO O ESQU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5084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77080" y="5013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2133720"/>
            <a:ext cx="100800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788000" y="306828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51280" y="3284640"/>
            <a:ext cx="215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4797360"/>
            <a:ext cx="1008360" cy="936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40000" y="3933720"/>
            <a:ext cx="216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700360" y="4437000"/>
            <a:ext cx="1295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43280" y="4653000"/>
            <a:ext cx="24494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0360" y="4941720"/>
            <a:ext cx="43927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5516640"/>
            <a:ext cx="302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tamento de anim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imilar ao player, apenas baseado em parâmetros do robô, e rodando no objeto rob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mplo: animação caminha se velo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velox &gt; 0 then robo1.anima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velox &lt;= 0 then robo1.anim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REM ** 0. PA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robo1.anim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OOP OBJECT robo1.objeto_num, 0,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ET OBJECT SPEED robo1.objeto_num,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DIF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31:09Z</dcterms:created>
  <dc:creator>A.B.</dc:creator>
  <dc:description/>
  <dc:language>en-US</dc:language>
  <cp:lastModifiedBy>A.B.</cp:lastModifiedBy>
  <dcterms:modified xsi:type="dcterms:W3CDTF">2008-10-29T17:52:05Z</dcterms:modified>
  <cp:revision>10</cp:revision>
  <dc:subject/>
  <dc:title>Dark Basic Pro: IA – Parte 2</dc:title>
</cp:coreProperties>
</file>