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2C41-EB7D-498A-BB4C-D1E65C909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6798-17A4-4530-8D3D-65D4DC6EA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073C-E354-45F6-9828-1E137E1EA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19C1-647D-454A-AA49-8D617A2FE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2491-0A28-4FD3-99EA-FF6C8BDD7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AD56-9ABD-4BC5-8CAD-ACA05365B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772C-93D0-49DA-B9AF-68B52654D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DC14-0430-4F51-AD67-08486010B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E92C-662A-4D22-8F44-B20F6BF60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2AA2-CDB2-4BED-AF12-DAA294F92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3F0E-9F5F-4C05-A69F-28F5C87E2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214C-D9AF-4DC8-8503-D16F2B5B8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F3355-60DA-418B-AC0F-8240EACF0E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Dark Basic Pro:</a:t>
            </a:r>
            <a:br>
              <a:rPr sz="4400"/>
            </a:b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Inteligência Artific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gusto Bü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ôs: precisam perceber e tratar suas colisões também (automaticamen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isão de autômatos e tratamen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goritmos complex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tecipar movimen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ceber melhores saí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A Parte 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mular comportamento inteligente em elementos autômatos no j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o passo: planejar o comportamento desej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o passo: identificar estados – separar ações diferentes (partes do comportament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o passo: identificar mudança de estados – o que faz o robô mudar de um estado a out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gramar regras – testar - adapt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ad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tes do comportam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ferentes açõ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tados com códigos (partes) separad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rolar estados por variá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iar regras para mudança de est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ementos com IA = autômatos fini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anejar comportamento como máquina de est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enho de fluxograma de estados / comportamen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lementar estados e reg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24000" y="1557360"/>
            <a:ext cx="8353440" cy="453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68360" y="2781360"/>
            <a:ext cx="1008360" cy="93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trul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64000" y="3573360"/>
            <a:ext cx="1008000" cy="935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Vê p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219640" y="2708280"/>
            <a:ext cx="1008000" cy="93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00360" y="4941720"/>
            <a:ext cx="1008000" cy="935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a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908000" y="2781360"/>
            <a:ext cx="360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76720" y="3500280"/>
            <a:ext cx="28728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 flipV="1">
            <a:off x="3203640" y="3715920"/>
            <a:ext cx="28872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3419280" y="4437000"/>
            <a:ext cx="2156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564000" y="4508280"/>
            <a:ext cx="216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4643280" y="3429000"/>
            <a:ext cx="50508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716000" y="3573360"/>
            <a:ext cx="57636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0" y="4365720"/>
            <a:ext cx="79200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435640" y="4653000"/>
            <a:ext cx="1152360" cy="10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08720" y="4724280"/>
            <a:ext cx="1008000" cy="935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5640" y="1916280"/>
            <a:ext cx="1152360" cy="10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26920" y="1989000"/>
            <a:ext cx="1008360" cy="935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Iniciali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798880" y="1844640"/>
            <a:ext cx="226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são Geral Est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11280" y="1700280"/>
            <a:ext cx="7848360" cy="4249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55640" y="1773360"/>
            <a:ext cx="1008000" cy="93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a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771640" y="1916280"/>
            <a:ext cx="1008360" cy="93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i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32000" y="3213000"/>
            <a:ext cx="1008360" cy="935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taque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79640" y="4005360"/>
            <a:ext cx="1008000" cy="93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t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43280" y="2276640"/>
            <a:ext cx="1008360" cy="93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taqu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227640" y="2781360"/>
            <a:ext cx="1008360" cy="93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aix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859280" y="4292640"/>
            <a:ext cx="1008000" cy="93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i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59280" y="2924280"/>
            <a:ext cx="72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24360" y="2421000"/>
            <a:ext cx="57636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24360" y="2924280"/>
            <a:ext cx="36036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866920" y="3716280"/>
            <a:ext cx="5050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3131640" y="4221000"/>
            <a:ext cx="360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4724280"/>
            <a:ext cx="158400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050920" y="1916280"/>
            <a:ext cx="57636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867280" y="5084640"/>
            <a:ext cx="108108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60320" y="1844640"/>
            <a:ext cx="213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lodindo Bolh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alhan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11280" y="1484280"/>
            <a:ext cx="7993080" cy="446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55640" y="2421000"/>
            <a:ext cx="1008000" cy="93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trul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050920" y="3213000"/>
            <a:ext cx="1008360" cy="935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Vê p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763640" y="3139920"/>
            <a:ext cx="28728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 flipV="1">
            <a:off x="1690200" y="3355560"/>
            <a:ext cx="28908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053800" y="2708280"/>
            <a:ext cx="175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ia &lt; 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8520" y="3573360"/>
            <a:ext cx="11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 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96000" y="1844640"/>
            <a:ext cx="1008000" cy="93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i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932360" y="3716280"/>
            <a:ext cx="1008000" cy="93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taque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877080" y="3716280"/>
            <a:ext cx="1008000" cy="93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taqu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435280" y="2781360"/>
            <a:ext cx="43164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659640" y="2781360"/>
            <a:ext cx="36036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095600" y="2637000"/>
            <a:ext cx="11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ando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3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503240" y="2852640"/>
            <a:ext cx="11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ando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7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2120" y="1628640"/>
            <a:ext cx="490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alhando: Regras para mudança de est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Implementação das regr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REM 1. Patrulhan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IF inimigo.estado =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IF distancia_player &lt; 3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inimigo.estado = 2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vê player e decide (próxim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ENDI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ENDI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REM 2. Ve player / Deci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IF inimigo.estado =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IF inimigo.saude &lt; 3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inimigo.estado = 3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FO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ELSE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inimigo.estado = 4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ATAQ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ENDI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ENDI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ortan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nejar comportamento desej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ntificar estados diferentes (partes do comportament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ntificar regras para mudança de est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gramar regras / testar / adapt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7T12:35:55Z</dcterms:created>
  <dc:creator>A.B.</dc:creator>
  <dc:description/>
  <dc:language>en-US</dc:language>
  <cp:lastModifiedBy>A.B.</cp:lastModifiedBy>
  <dcterms:modified xsi:type="dcterms:W3CDTF">2008-10-27T18:29:19Z</dcterms:modified>
  <cp:revision>8</cp:revision>
  <dc:subject/>
  <dc:title>Dark Basic Pro: Inteligência Artificial</dc:title>
</cp:coreProperties>
</file>