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380-9EC3-4CF4-A22C-0CE1341D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E05-3BDE-4599-96A6-A2FAE33B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017-14A6-40CF-9175-CE9CF426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7ED-1D64-4754-BCF4-C1480313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119-F17E-4907-83B3-B7A661ED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B24-F858-417F-9AFC-7D56CC81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940-F39B-433A-8931-C028DB3E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FF2-838B-4F91-80F2-8CCD429C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DC2-1829-46B8-B08A-2D60CE0B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2A7-331A-4ED9-A5B7-84F93FBB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872-93F2-4339-9511-2B78B065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5E8-775A-48CD-82E3-6D806C4C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A79F-7190-4C84-AF53-3F5F46A6B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icas: Disparos, Tiros e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M bala(3) as ent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ntrole_bal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dic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WHILE indice &lt;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dice = indice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M ** 1. INICILIAZA B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bala(indice).estado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OSITION OBJECT bala(indice).objeto_num, playerx#, playery#, playerz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YROTATE OBJECT bala(indice).objeto_num, player_ang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bala(indice).estado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7056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ia ao Mundo re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: objeto movendo em alta velocidade, de um ponto inicial, com uma direção (m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ndo 3D / Jog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: objetos movendo em alta velocidad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uma forma ger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a bala = um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riando disparos / ba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alas pré-definidas (obje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sparo: posição inicial =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sparo: direção inicial =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omado possível ângulo extra da arma (mi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elocidade bala = próp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trole da bala = próprio, percebe sua colisão e faz seu tra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aro / Bala: estados básico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781360"/>
            <a:ext cx="1368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cia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2781360"/>
            <a:ext cx="13687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2781360"/>
            <a:ext cx="13687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34290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3429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dificação Bás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KE OBJECT SPHERE 50,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CONTROLKE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tira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OSUB controla_b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ontrola_ba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** 1. INICILIAZA B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atira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SITION OBJECT 50, playerx#, playery#, playerz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YROTATE OBJECT 50, player_ang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tira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atira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OVE OBJECT 50, velo_bala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lisao = OBJECT COLLISION(50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M ** COLISAO MENOS COM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colisao &lt;&gt; 0 AND colisao &lt;&g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tira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atira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ext 20, 100, "BALA COLIDIU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tira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ários disparos simultâneos = várias balas (objetos) prepa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ber e utilizar bala “liv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r trabalh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ção de TYPE para entidades / b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or para controle de ent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e único bal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orrendo vetor, processando todas ba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CONTROLKEY() AND timer_atira &lt;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timer_atira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** VE BALA LIVRE E 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bala(1).estado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bala(1).estado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OTO ja_b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bala(2).estado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bala(2).estado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OTO ja_b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ja_ba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** TEMPORIZA TI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timer_atira &gt; 0 then timer_atira = timer_atira -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7:02:40Z</dcterms:created>
  <dc:creator>A.B.</dc:creator>
  <dc:description/>
  <dc:language>en-US</dc:language>
  <cp:lastModifiedBy>A.B.</cp:lastModifiedBy>
  <dcterms:modified xsi:type="dcterms:W3CDTF">2008-10-27T18:26:53Z</dcterms:modified>
  <cp:revision>5</cp:revision>
  <dc:subject/>
  <dc:title>Dark Basic Pro: Dicas: Disparos, Tiros e Balas</dc:title>
</cp:coreProperties>
</file>