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BEBA-4CEC-4C30-A858-42CF38F9D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5449-E611-4243-8E1E-4EBED09B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363B-3FD3-4D80-899D-22BC183B5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AB1A-6D43-4B5A-B306-05BB908C6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2401-56FA-445C-B3A9-85A9065E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04C6-5AA8-40D1-8709-C1A5B813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019A-5924-4304-9B7C-E419F6FA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22B5-8EA0-4B22-9CD5-2C1F3DEC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E77A-8B67-4463-8EE1-26C355C9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C91A-C95F-4DE1-80E9-948C794F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A9B8-B15F-4659-8600-035CFD7B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2F2D-9221-4ACC-A400-C8305BAF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9D73-8561-42DD-848A-F5679EA90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ark Basic Pro: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Subs, Funções, 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osições relativas e L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n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DFUN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ul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retorno da função utilizo o nome interno (local) da variável usada para cálculo – respo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ma(x,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código normal recebo – recolho – o resultado da função em qualquer variável do j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n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915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unção super-útil (distância de dois objetos 3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FUNCTION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calcula_distancia(num_obj1, num_obj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REM **  PEGO X,Y,Z - objet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x1 = OBJECT POSITION X(num_obj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y1 = OBJECT POSITION y(num_obj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z1 = OBJECT POSITION Z(num_obj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REM **  PEGO X,Y,Z - objet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x2 = OBJECT POSITION X(num_obj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y2 = OBJECT POSITION y(num_obj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z2 = OBJECT POSITION Z(num_obj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REM ** CALCULO DISTANCIA IN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dx = x1 - x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dy = y1 - y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dz = z1 - z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REM ** CALCULO DISTANCIA - F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dist = sqrt(dx*dx + dy*dy + dz*d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ENDFUNCTION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d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sições rel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ção relativa – independe do ângulo / direção do objeto orig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tilizar trigonometria para calcular posições rel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mplo: manter um objeto a frente (ou atrás) de outro, indiferente de seu ângulo de rotaçã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ó é possível com uso de trigonomet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sições rel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alculo básico para posição relativ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istancia1 = 50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ngulo1 = OBJECT ANGLE Y(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ngulo2 = 0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(ângulo adic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ovox# = playerx# + distancia1 * SIN(angulo1 + angulo2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ovoz# = playerz# + distancia1 * COS(angulo1 + angulo2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ovoy# = playery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OSITION OBJECT 3, novox#, novoy#, novoZ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Posição relativa: L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egar objetos junto com a câ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 pessoa: Interface – Armas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ção do objeto passa a ser em relação a câmera (não glob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CK OBJECT ON 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ITION OBJECT num, X, Y,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GoSub: Re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rganização dos códigos = utilização de subs (Gosub / Retur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Áreas de código controlando ações específicas (separad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o / Loop – menor, mais organiz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GOSUB = funciona como parte do código, compartilha variáveis gerais (GO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ETURN = retorna ao ponto normal do códi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GoSub: Re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ogramas atuais, LOOP contendo todo códig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mandos mov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mandos cam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GoSub: Re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ograma utilizando GOSUB, organiz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GOSUB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movimento_jog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GOSUB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controle_ca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Movimento_jogad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man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GoSub: Re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Label_nome: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ois pontos indicam label, ponto para “pulo” no códi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inal do SUB sempre acompanhado de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RETURN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– volta ao ponto de onde “pulou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ódigo com fluxo único: vai ao sub, e só retorna ao normal quando acaba o código do su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um LAÇO (Loop) dentro do SUB captura o programa até sua condição de f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n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timização de códi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tilizar funções para códigos muito usados, evitando a repetição da escrita = otimiz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unções para cálculos específicos / complexos, repetições, ou mesmo ações específicas: exemplo menus, fim de jogo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TENÇÃO: funções não compartilham diretamente as váriaveis normais do jogo (exceto Globais) – utilizam variáveis loc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n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tilização básica / declara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FUNCTION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mostra_texto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ext 20, 40, “Texto norma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(bloco de comandos)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NDFUN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o código do jogo, chama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mostra_texto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n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unções podem receber e retornar parâmetros / val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FUNCTIO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soma(valor1, valor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esultado = valor1 + valo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NDFUNCTIO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resul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X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Y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otal =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oma(x,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ext 200, 200, “TOTAL (usando funcao):  “ + STR$(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n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FUNCTION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soma(valor1, valor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a declaração da função, nome das variáveis (parâmetros), como serão utilizadas intern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otal =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oma(x,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a chamada da função passo outras variáveis qualquer (com seu nome próprio)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3:18:33Z</dcterms:created>
  <dc:creator>A.B.</dc:creator>
  <dc:description/>
  <dc:language>en-US</dc:language>
  <cp:lastModifiedBy>A.B.</cp:lastModifiedBy>
  <dcterms:modified xsi:type="dcterms:W3CDTF">2008-09-23T12:17:39Z</dcterms:modified>
  <cp:revision>14</cp:revision>
  <dc:subject/>
  <dc:title>Dark Basic Pro: Subs, Funções, comandos e ScreenSavers</dc:title>
</cp:coreProperties>
</file>