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A1C9-30B9-47CD-8981-1D269AF0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FF54-7EEA-4706-A6F1-B70C6458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3F22-740C-48E7-929F-784667C0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75ED-6843-4774-A585-A7779607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7E71-59AF-4832-BC7B-F75034B6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35CD-B42D-4608-BEB2-A0993159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65E0-708D-4717-B79D-3C0EF80B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973E-27AA-4CFE-B544-6505F70B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629D-777E-43C9-9867-5EF39C58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F152-FF18-4F56-BA40-A2A0DDBD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BFCC-46F2-4346-A9E4-B0181C2C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7DA9-8BF8-483A-9C75-C0853769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7B97-337E-4872-B427-2F8C190FE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feitos com Spr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fe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BPRO – necessário usar SPRITEs animadas para alguns efe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sar a SPRITE animada 2D, na posição relativa 3D do ob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odar a animação da SPRITE (fra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esligar / remover sprite no final da anim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Efeitos / Spr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 imagem precisa conter todos quadros da animação / efei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magem: “explo01+8.BM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eclarando esta spri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LOAD IMAGE "explo01+8.BMP",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REATE ANIMATED SPRITE 1, "explo01+8.BMP", 8, 1,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(accross = 8, oito quadros posicionados lado a l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9640" y="2421000"/>
            <a:ext cx="75614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Efeitos / Spr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escobrindo se um objeto 3D esta presente na te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na_tela = OBJECT IN SCREEN (n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F na_tela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torna 1 se aparecendo na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Efeitos / Spr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e o objeto está na tela, é possível descobrir a coordenada 2D (de tela), relativa a sua posição 3D no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ela_x = OBJECT SCREEN X (n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ela_y = OBJECT SCREEN Y (n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Efeitos / Spr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ntão podemos posicionar a sprite nesta posição rel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ra centralizar, é necessário corrigir a posição 2D, de acordo com o tamanho da SPR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M CORRIGE / CENTRALIZA PELO TAMANHO DA IMA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ela_x = tela_x - SPRITE WIDTH(num)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ela_y = tela_y - SPRITE HEIGHT(num)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M POSICIONA SP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PRITE 1, tela_x, tela_y,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Efeitos / Spr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m a sprite posicionada, animamos, passando os quad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Uma correção de velocidade pode ser necessária, mudando o quadro a cada X cicl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onta_ciclos = conta_ciclos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F conta_ciclos &gt;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onta_ciclos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rame_sprite# = frame_sprite#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SET SPRITE FRAME 1, frame_sprite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Efeitos / Spr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inalizamos o efeito, desligamos a sprite, quando atingir o quadro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IF frame_sprite# &gt;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HIDE SPRIT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mostra_efeito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Efeitos / Spr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403280" y="134136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6:42:35Z</dcterms:created>
  <dc:creator>A.B.</dc:creator>
  <dc:description/>
  <dc:language>en-US</dc:language>
  <cp:lastModifiedBy>A.B.</cp:lastModifiedBy>
  <dcterms:modified xsi:type="dcterms:W3CDTF">2009-11-25T18:30:02Z</dcterms:modified>
  <cp:revision>13</cp:revision>
  <dc:subject/>
  <dc:title>Dark Basic Pro: Imagens, Sprites e Menus</dc:title>
</cp:coreProperties>
</file>