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BEB-8495-4D0D-B4A9-63D0A3E0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965-5EAE-44B3-A910-84B870A9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1E8-598D-4DB5-B2A8-87059B13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FCC-DA1C-4357-81C7-D9930CD8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28D-8843-4019-B7E6-08F4A122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966-2A9C-4AA2-B38C-679779BA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21D-B591-4BAF-B8D1-EA09945F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43C-5A86-448C-AD2D-4B6CFABF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F6F-218C-4B69-926A-6EFCC5F1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54B-4177-46C7-B0FA-CE912A7F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F09-E701-4F75-B697-B512424E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453-7880-4F5B-8D48-8F9902F5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A2F5-24F0-46AA-BDBC-9BA1C30C1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pas complexos: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63626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lisão BSP = auto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âm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ET BSP CAMERA COLLISION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Collision Index, Camera Num, Raio, Resp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dex 0..32 – números únicos (por obje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spost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0 = des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 = fica ultima posição li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lisão obj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 BSP OBJECT COLLISION Index, Object Num, Raio, Resp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ões úte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 Integer = BSP COLLISION HIT(Collision Ind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Colidindo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ult Float = BSP COLLISION X(Collision Ind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- Retorna colisão (deslizamento) em X, Y,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4818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imulação básica de gravida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VE OBJECT DOWN 1, gravidade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imulação de pu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riar estados: Subindo, caindo, ch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Controlar velocidade Z com variá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pulando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OVE OBJECT UP 1, veloz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eloz# = veloz# -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F veloz#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eloz#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pulando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SP = binary space part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scrição de um espaço 3D com otimização de corte (cul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ulling = algoritmos de c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strar o que esta visível, não renderizar o resto da cena (segmentação do ma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timização  =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goritmos de corte: uma das principais diferenças entre engines (velocidade, tamanho dos mapas, número de elementos, FPS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SP Tree = subdivisão do mapa em partes, consistindo polígonos em ângulos menores que 180 (non-reflex angles) = seg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47640" y="2421000"/>
            <a:ext cx="604872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istemas usuais de partição do espaço 3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SP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Quad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c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goritmos complexos, mas altamente eficientes para corte de partes não visiveis em determinada posi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goritmos de corte: não são o foco da discip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iores informações: 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pas BSP: arquivos .PK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cote com a descrição do mapa BSP, texturas, mapeamento, iluminação,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K3 = Mapa compl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K3 = Quake 3 = DBPro (compatíve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ção com programas auxilia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D World Studio (U$ 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rtography 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erramentas Quake (Half Lif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lve Hammer + Quake (F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6875640" cy="5116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pas pre-compilados: criação da BSP Tree = demanda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odando = alta velocidade /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dição programas auxiliares: faci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Jogos profission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pas internos: BSP ou semelh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pas externos: Terrenos (advan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binação de ambos (maior parte ca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arregar um mapa BS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OAD BSP “file.PK3”, “file.BS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ormal: apenas arquivo PK3, leitura: BSP repetindo n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OAD BSP "20Kdm2.pk3", "20Kdm2.bsp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pas B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6350040" cy="3873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2920" y="5445000"/>
            <a:ext cx="78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apa criado com uma escala próp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demos adaptar nosso codigo para novo tamanho, velocidade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4:40:42Z</dcterms:created>
  <dc:creator>A.B.</dc:creator>
  <dc:description/>
  <dc:language>en-US</dc:language>
  <cp:lastModifiedBy>A.B.</cp:lastModifiedBy>
  <dcterms:modified xsi:type="dcterms:W3CDTF">2008-10-22T17:00:15Z</dcterms:modified>
  <cp:revision>3</cp:revision>
  <dc:subject/>
  <dc:title>Dark Basic Pro: Mapas complexos: BSP</dc:title>
</cp:coreProperties>
</file>